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B87D-A64B-4B62-BE78-18F6AF220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14C3-671B-4BDA-8AD5-D6D9D15A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B7C2-80EE-45F8-BE24-C1171C0B2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5FC1-5F13-4E65-9310-7AF6D36E9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1D27B-6C31-4861-A201-F948A2A9C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4BA4-573E-4AC7-93CD-C6C3B314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28C89-6738-4E11-AEF9-BC51453D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BDB0-603A-427C-9679-81632DAC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3F72-2134-4EEE-AC1A-7CBFA9E8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637D-CB36-4A0D-A381-D40BD4C1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B360-E8DC-42AB-BFD1-0AAC681F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C370-7617-420A-ACE9-C72F7A99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1DE7-51AE-427A-B8D2-52DF63AE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6316-E89B-4C87-A83E-8AE9037D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1F6F-5A38-4DCF-914C-E9F69F3F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EA3A4-30D9-4EB5-A45E-21150C58A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1631A-0281-43FF-8310-B5344FF27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3474-3A24-4C41-82AF-E688B84A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8340-1F61-4914-841F-894D0546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EFF5-CC13-44D1-ADB5-7F9E94C0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0F26-C04A-4090-B59A-B7C958A9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E6F3-55B6-4699-99D4-1A30E9D5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FAAA-162A-47C1-BC91-9A39DE72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77A3-3C46-47FD-B717-3D9194FF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B18E-9272-438C-BC4C-47B854913B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B810-5B42-4E17-808C-95B3B21549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1980720"/>
            <a:ext cx="8076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Give Us a King –</a:t>
            </a:r>
            <a:br>
              <a:rPr sz="4400"/>
            </a:b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The Story of David Continue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rter 5, Lesson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 Sam. 14:24 – 15:3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ges 83-8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David Flees From Jerusalem</a:t>
            </a:r>
            <a:br>
              <a:rPr sz="4400"/>
            </a:br>
            <a:r>
              <a:rPr b="1" lang="en-US" sz="2800" spc="-1" strike="noStrike">
                <a:solidFill>
                  <a:srgbClr val="b7e7ff"/>
                </a:solidFill>
                <a:latin typeface="Arial"/>
              </a:rPr>
              <a:t>2 Sam. 15:13-18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842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advised of the general defection of the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ve orders to leave immediat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servants, body guards and the 600 men who joined him at Gath headed E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 concubines left to keep the ho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time he has ever turned his back to the ene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probably thought this seige was from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The Steadfast Friendship of Ittai</a:t>
            </a:r>
            <a:br>
              <a:rPr sz="4000"/>
            </a:br>
            <a:r>
              <a:rPr b="1" lang="en-US" sz="2800" spc="-1" strike="noStrike">
                <a:solidFill>
                  <a:srgbClr val="b7e7ff"/>
                </a:solidFill>
                <a:latin typeface="Arial"/>
              </a:rPr>
              <a:t>2 Sam. 15:19-22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tried get It’-ta-i to return to the 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was no reason for Ittai to abandon this friend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had not deserved this rejection by the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tai shows us that you do not abandon a friend when he is 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A Spy System Starts</a:t>
            </a:r>
            <a:br>
              <a:rPr sz="4400"/>
            </a:br>
            <a:r>
              <a:rPr b="1" lang="en-US" sz="2800" spc="-1" strike="noStrike">
                <a:solidFill>
                  <a:srgbClr val="b7e7ff"/>
                </a:solidFill>
                <a:latin typeface="Arial"/>
              </a:rPr>
              <a:t>2 Sam. 15:23-31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iests with the ark remained loy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, Za’-dok and A-bi’-a-thar, and their sons were told to return to Jerusalem with the a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’s logic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Lord was with him, He would return him to see the ark and the city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Lord was not with him, then let the Lord do as He pleases with 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asked God to turn the counsel of Ahithophel into foolish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David’s Inside Informer – Hushai</a:t>
            </a:r>
            <a:br>
              <a:rPr sz="2800"/>
            </a:br>
            <a:r>
              <a:rPr b="1" lang="en-US" sz="2800" spc="-1" strike="noStrike">
                <a:solidFill>
                  <a:srgbClr val="b7e7ff"/>
                </a:solidFill>
                <a:latin typeface="Arial"/>
              </a:rPr>
              <a:t> 2 Sam. 15:32-37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shai can do more good for David on the inside of Absalom’s sta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instrument of defeat for Ahithophel’s couns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he stayed in Jerusalem to join Absal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ystem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shai informs Zadok and Abiath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inform Ahimaaz and Jonathan, their 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then will get word to Dav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while, Absalom entered the city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Review Points From Last Lesson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232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non violated his half-sister, Tam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took no 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alom, her full brother, took vengeance on Amnon two years l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took no 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alom fled to Gesh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three years, Joab schemes for  his retu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did, but they did not see each other for two more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nfo on Absalom –</a:t>
            </a:r>
            <a:br>
              <a:rPr sz="4400"/>
            </a:br>
            <a:r>
              <a:rPr b="0" lang="en-US" sz="2800" spc="-1" strike="noStrike">
                <a:solidFill>
                  <a:srgbClr val="b7e7ff"/>
                </a:solidFill>
                <a:latin typeface="Arial"/>
              </a:rPr>
              <a:t>2 Sam. 14:25-26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son of David by Maachah, daughter of Talmai king of Geshur, a Syrian district adjoining the northeast portion of Isra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brother to Tamar; Half-brother to Amn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ds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blemishes from head to to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t his hair once a year when it got “heav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 three sons and one daugh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: His sons died young – see 2 Sam. 18: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Remember –</a:t>
            </a: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First Six Sons Born to David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mn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y Ahinoam the Jezreelit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’-eab by Abigail the Carmelit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b’-sa-l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y Maacah, the daughter of Tal’-mai king of Gesh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-o-ni’-jah by Hagg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ph-a-ti’-ah by Ab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h’-re-am by Egl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ll six were born in Hebron – 2 Sam. 3:2-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No doubt Chileab was dead by now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oday’s Lesson Picks Up Her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 years since Amnon forced his si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 steps in the direction of reconcil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ab becomes an intercess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imes people are insinc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alom hated losing power more than he disliked the broken relationship with his fa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ort at reconciliation was pretentious on David’s p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t, David relented and saw Absal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bsalom Rebels</a:t>
            </a:r>
            <a:br>
              <a:rPr sz="4400"/>
            </a:br>
            <a:r>
              <a:rPr b="0" lang="en-US" sz="2800" spc="-1" strike="noStrike">
                <a:solidFill>
                  <a:srgbClr val="b7e7ff"/>
                </a:solidFill>
                <a:latin typeface="Arial"/>
              </a:rPr>
              <a:t>2 Sam. 15:1-12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pared chariots, horses with 50 m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came a “politician” at the g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amed David for the lack of just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pted obeisance from the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ked David to let him go to Hebron to worship (after 4 years; as a pretens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n his conspiracy grew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2108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105520" y="1828800"/>
            <a:ext cx="10666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sh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br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885840" y="2286000"/>
            <a:ext cx="114300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200400" y="2971800"/>
            <a:ext cx="175248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819520" y="3657600"/>
            <a:ext cx="220968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48520" y="17524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re Absalom First Fl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48520" y="25909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re He Began His Rebell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342900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re David Had Earlier Influenced A Following of 600 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Sometimes Devious Motives Are Supported By Other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842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hith’-ophel, David’s counselor and Bathsheba’s grandfather, encouraged Absalom's devious mo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should have encouraged Absalom to do the right 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Sometimes Devious Motives Are Supported By Other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842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in God has “Marked” for us those who cause division in the kingdom – Rom.16: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erson who causes division is condem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erson who supports and encourages division is condem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8:57:15Z</dcterms:created>
  <dc:creator>Terry W. Benton</dc:creator>
  <dc:description/>
  <dc:language>en-US</dc:language>
  <cp:lastModifiedBy>Frank D Vines</cp:lastModifiedBy>
  <dcterms:modified xsi:type="dcterms:W3CDTF">2005-07-07T05:07:11Z</dcterms:modified>
  <cp:revision>17</cp:revision>
  <dc:subject/>
  <dc:title>Give Us a King</dc:title>
</cp:coreProperties>
</file>